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BB1-E2AD-49A9-92C0-140DADC7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218-615D-4294-9E7A-1C17EA07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575-BF28-4389-8B77-741BB97F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4516-9F6B-4A9B-8931-7D593F18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4E2E-4307-47D4-9BF5-FC028C29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6255-E132-4699-A7F1-FFBFA1CD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F6A0-A7EE-4056-9C79-F415311C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2B54-E7D3-4B3B-B125-694AEFD7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369-7AA2-404A-B8C0-8F5968F9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4761-D39B-4B06-B430-BC2355E4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4FF-C4EA-4ADA-B291-7E60B359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D585-58C5-407B-BA2F-4DDB74A1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72E5-DB70-48DD-8296-1A5FCA27B8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440" y="2209680"/>
            <a:ext cx="652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Cohort Stud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620120" cy="5410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10280" y="5715000"/>
            <a:ext cx="1524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304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3657600"/>
            <a:ext cx="7391520" cy="914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81680" y="4191120"/>
            <a:ext cx="1524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739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562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05320" y="4800600"/>
            <a:ext cx="7617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4648320"/>
            <a:ext cx="20574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48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400800" y="4648320"/>
            <a:ext cx="19810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96080" cy="5334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086600" y="5867280"/>
            <a:ext cx="14479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3124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769644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838080" y="4572000"/>
            <a:ext cx="7696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3124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7696440" cy="838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38080" y="4572000"/>
            <a:ext cx="769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3124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7696440" cy="698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696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696080" cy="698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62520" y="3733920"/>
            <a:ext cx="6094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85800" y="4495680"/>
            <a:ext cx="7696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696080" cy="5410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162920" y="6095880"/>
            <a:ext cx="14475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3200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696080" cy="876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0" y="4572000"/>
            <a:ext cx="15238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5800" y="4648320"/>
            <a:ext cx="7696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3200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696080" cy="838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5800" y="4648320"/>
            <a:ext cx="7696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620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2590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543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010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38:33Z</dcterms:modified>
  <cp:revision>213</cp:revision>
  <dc:subject/>
  <dc:title>Slide 1</dc:title>
</cp:coreProperties>
</file>